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350-E74B-4414-95E7-5BC7B406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D7A-3938-4062-B864-0B085FD4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673-FC95-40F6-81A1-89234773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4F3-B4C1-4A65-9D65-9F2D3B8E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2B6-995C-44BE-91BC-E04A0736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EAC-F56A-4F3D-8D11-4B1AE709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7C7-DB60-46CA-8EE0-A027CAC3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590-1CEF-4765-A2C0-C9B3AF5C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10C-6905-4519-B543-19AA874A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862-03FF-47C6-9DE7-23CF4459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B10-3E23-44FC-814B-6247961D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699-AD1B-4556-8107-FB790728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FF1F-5D0B-4892-A2D9-944D02BFE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user\Desktop\desktopwallpapers.org.ua-27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оэмоциональное развитие человека посредством танц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:  Герасимова Тама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1 класса 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Городская гимназия №1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Усть-Илим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циологическое исслед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ject 1" descr=""/>
          <p:cNvPicPr/>
          <p:nvPr/>
        </p:nvPicPr>
        <p:blipFill>
          <a:blip r:embed="rId1"/>
          <a:stretch/>
        </p:blipFill>
        <p:spPr>
          <a:xfrm>
            <a:off x="142920" y="500040"/>
            <a:ext cx="9001080" cy="635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1"/>
          <p:cNvGraphicFramePr/>
          <p:nvPr/>
        </p:nvGraphicFramePr>
        <p:xfrm>
          <a:off x="0" y="0"/>
          <a:ext cx="9144000" cy="66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19680" cy="227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rcRect l="0" t="0" r="1473" b="0"/>
          <a:stretch/>
        </p:blipFill>
        <p:spPr>
          <a:xfrm>
            <a:off x="0" y="2286000"/>
            <a:ext cx="5708520" cy="2219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rcRect l="0" t="6529" r="0" b="8895"/>
          <a:stretch/>
        </p:blipFill>
        <p:spPr>
          <a:xfrm>
            <a:off x="0" y="4502160"/>
            <a:ext cx="5715000" cy="2355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5857920" y="180360"/>
            <a:ext cx="350028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6120" rIns="181080" tIns="177840" bIns="177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нь расстя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день растя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яжк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144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ие между упорством и упрям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ит в том, что первое имеет сво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очником сильное жел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торое, наоборот, сильное нежелани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. Гельве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0" y="2357280"/>
            <a:ext cx="9144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цы, как и любой другой вид спорта, направлены на то, чтобы человек стал крепче и морально и физически, они являются уникальным способом оставаться в форме для людей любого возраста, социального статуса и любой комплекции. Танец несёт в себе положительные стороны для здоровья человека, а главное танцы – это новые ощущения и новые откры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user\Desktop\При ис д\презентация\y_ec380dd6.jpg"/>
          <p:cNvPicPr/>
          <p:nvPr/>
        </p:nvPicPr>
        <p:blipFill>
          <a:blip r:embed="rId1"/>
          <a:stretch/>
        </p:blipFill>
        <p:spPr>
          <a:xfrm>
            <a:off x="7002360" y="4272120"/>
            <a:ext cx="2141640" cy="2585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user\Desktop\При ис д\презентация\z_fae868bd.jpg"/>
          <p:cNvPicPr/>
          <p:nvPr/>
        </p:nvPicPr>
        <p:blipFill>
          <a:blip r:embed="rId2"/>
          <a:stretch/>
        </p:blipFill>
        <p:spPr>
          <a:xfrm>
            <a:off x="0" y="0"/>
            <a:ext cx="431784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user\Desktop\При ис д\презентация\x_4a98f477.jpg"/>
          <p:cNvPicPr/>
          <p:nvPr/>
        </p:nvPicPr>
        <p:blipFill>
          <a:blip r:embed="rId3"/>
          <a:stretch/>
        </p:blipFill>
        <p:spPr>
          <a:xfrm>
            <a:off x="0" y="4618080"/>
            <a:ext cx="3786120" cy="223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анцуй.Всё в твоих руках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13840" y="35712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Объект исследова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нец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едмет исследования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лияние танца на духовное и физическое                             развитие челове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Цели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снить, каким образом занятия хореографией влияют на психоэмоциональное развитие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ь, связан ли темперамент человека с характером танца, который он исполня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ить историю возникновения танца и его ви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снить, насколько занятие танцами отражается на успеваемости ребё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сти тестирование среди танцоров с целью выявления соответствия темперамента тому виду танца, который исполняет танцо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сти эксперимент, направленный на укрепление силы воли и на достижение желаемого результ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ть видеоролик, мотивирующий на осуществление собственных жел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57120" y="35712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занятие хореографией влияет на развитие си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и и на состояние человека, то учащиеся должн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о обучаться в школе, а также улучшат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ое психоэмоциональное состоя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 литературы, систематизация литературных данн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кетирование, обработка полученных данн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стирование и диагностир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ая работа по созданию видеорол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user\Desktop\gf_3.jpg"/>
          <p:cNvPicPr/>
          <p:nvPr/>
        </p:nvPicPr>
        <p:blipFill>
          <a:blip r:embed="rId1"/>
          <a:stretch/>
        </p:blipFill>
        <p:spPr>
          <a:xfrm>
            <a:off x="2500200" y="3214800"/>
            <a:ext cx="3513240" cy="36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user\Desktop\indian_sounds-540x359.jpg"/>
          <p:cNvPicPr/>
          <p:nvPr/>
        </p:nvPicPr>
        <p:blipFill>
          <a:blip r:embed="rId2"/>
          <a:stretch/>
        </p:blipFill>
        <p:spPr>
          <a:xfrm rot="20460000">
            <a:off x="326880" y="939600"/>
            <a:ext cx="4032360" cy="268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user\Desktop\Bollywood.jpg"/>
          <p:cNvPicPr/>
          <p:nvPr/>
        </p:nvPicPr>
        <p:blipFill>
          <a:blip r:embed="rId3"/>
          <a:stretch/>
        </p:blipFill>
        <p:spPr>
          <a:xfrm rot="1320000">
            <a:off x="4581000" y="666360"/>
            <a:ext cx="4148280" cy="30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571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о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психические процессы, отражающие личную значимость внешних и внутренних ситуаций для жизнедеятельности человека в форме пережи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ажения эмоц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универсальные, сходные для всех людей, наборы экспрессивных знаков, отражающие те или иные эмоциональные состоя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2940840"/>
            <a:ext cx="93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ыразительным формам эмоций относятся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ы (движения рук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ка (движения мышц лиц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мимика (движения всего тел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е компоненты речи (сила,тембр, интонации голос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гетативные изменения (покраснение, побледнение, потоотде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campaign_5.jpg"/>
          <p:cNvPicPr/>
          <p:nvPr/>
        </p:nvPicPr>
        <p:blipFill>
          <a:blip r:embed="rId1"/>
          <a:stretch/>
        </p:blipFill>
        <p:spPr>
          <a:xfrm>
            <a:off x="0" y="0"/>
            <a:ext cx="4143240" cy="250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user\Desktop\x_b6662415.jpg"/>
          <p:cNvPicPr/>
          <p:nvPr/>
        </p:nvPicPr>
        <p:blipFill>
          <a:blip r:embed="rId2"/>
          <a:stretch/>
        </p:blipFill>
        <p:spPr>
          <a:xfrm rot="480000">
            <a:off x="5246280" y="-6120"/>
            <a:ext cx="4218120" cy="281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user\Desktop\tanec-korejskij.jpg"/>
          <p:cNvPicPr/>
          <p:nvPr/>
        </p:nvPicPr>
        <p:blipFill>
          <a:blip r:embed="rId3"/>
          <a:stretch/>
        </p:blipFill>
        <p:spPr>
          <a:xfrm rot="20940000">
            <a:off x="190440" y="2494080"/>
            <a:ext cx="2770200" cy="225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user\Desktop\sky_197.jpg"/>
          <p:cNvPicPr/>
          <p:nvPr/>
        </p:nvPicPr>
        <p:blipFill>
          <a:blip r:embed="rId4"/>
          <a:stretch/>
        </p:blipFill>
        <p:spPr>
          <a:xfrm>
            <a:off x="4929120" y="4486320"/>
            <a:ext cx="4214880" cy="23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user\Desktop\1178892598.jpg"/>
          <p:cNvPicPr/>
          <p:nvPr/>
        </p:nvPicPr>
        <p:blipFill>
          <a:blip r:embed="rId5"/>
          <a:srcRect l="13057" t="0" r="7559" b="0"/>
          <a:stretch/>
        </p:blipFill>
        <p:spPr>
          <a:xfrm>
            <a:off x="2571840" y="450072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user\Desktop\678.jpg"/>
          <p:cNvPicPr/>
          <p:nvPr/>
        </p:nvPicPr>
        <p:blipFill>
          <a:blip r:embed="rId6"/>
          <a:stretch/>
        </p:blipFill>
        <p:spPr>
          <a:xfrm>
            <a:off x="3286080" y="2571840"/>
            <a:ext cx="3224160" cy="19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ая характеристика поведения человека, психическое свойство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тип высшей нервной деятельности соответствует определённому темпераменту, является его осново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428920"/>
          <a:ext cx="9144000" cy="4427640"/>
        </p:xfrm>
        <a:graphic>
          <a:graphicData uri="http://schemas.openxmlformats.org/drawingml/2006/table">
            <a:tbl>
              <a:tblPr/>
              <a:tblGrid>
                <a:gridCol w="1714680"/>
                <a:gridCol w="1143000"/>
                <a:gridCol w="2357280"/>
                <a:gridCol w="2286000"/>
                <a:gridCol w="1643040"/>
              </a:tblGrid>
              <a:tr h="833040">
                <a:tc rowSpan="2"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п  высш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рв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обенности нервных процессов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емпера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овеш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овеш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гви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удер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равновеш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ер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овеш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подви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егмат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равновеш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подви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анхол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ологическое исслед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14200" y="1214280"/>
          <a:ext cx="8643960" cy="5357880"/>
        </p:xfrm>
        <a:graphic>
          <a:graphicData uri="http://schemas.openxmlformats.org/drawingml/2006/table">
            <a:tbl>
              <a:tblPr/>
              <a:tblGrid>
                <a:gridCol w="4862520"/>
                <a:gridCol w="3781440"/>
              </a:tblGrid>
              <a:tr h="33336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мпера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тан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0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ер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го, джаз-модерн, буги-вуги, рок-н-ролл, </a:t>
                      </a:r>
                      <a:r>
                        <a:rPr b="0" lang="ru-RU" sz="2000" spc="-1" strike="noStrike">
                          <a:solidFill>
                            <a:srgbClr val="141414"/>
                          </a:solidFill>
                          <a:latin typeface="Times New Roman"/>
                          <a:ea typeface="Times New Roman"/>
                        </a:rPr>
                        <a:t>хип-хоп, RnB шаффл, фанк, Go-go dance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ругие виды экспрессивных, «взрывных» танц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гвин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ди-балет, диско</a:t>
                      </a:r>
                      <a:r>
                        <a:rPr b="0" lang="ru-RU" sz="2000" spc="-1" strike="noStrike">
                          <a:solidFill>
                            <a:srgbClr val="141414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41414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41414"/>
                          </a:solidFill>
                          <a:latin typeface="Times New Roman"/>
                          <a:ea typeface="Times New Roman"/>
                        </a:rPr>
                        <a:t>латиноамериканские танцы: румба, сальса, самба, ча-ча-ч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ругие виды подвижных танц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егмат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ческий балет</a:t>
                      </a:r>
                      <a:r>
                        <a:rPr b="0" lang="ru-RU" sz="2000" spc="-1" strike="noStrike">
                          <a:solidFill>
                            <a:srgbClr val="141414"/>
                          </a:solidFill>
                          <a:latin typeface="Times New Roman"/>
                          <a:ea typeface="Times New Roman"/>
                        </a:rPr>
                        <a:t>, ирландские танцы, фламенко, танец живота, русские народные тан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анхол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ди-балет, классический балет, любые виды спокойных танце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логическая диагности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самочувствия, активности и настроения (СА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ject 1" descr=""/>
          <p:cNvPicPr/>
          <p:nvPr/>
        </p:nvPicPr>
        <p:blipFill>
          <a:blip r:embed="rId1"/>
          <a:stretch/>
        </p:blipFill>
        <p:spPr>
          <a:xfrm>
            <a:off x="-642960" y="1263600"/>
            <a:ext cx="8643960" cy="559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4:25:48Z</dcterms:created>
  <dc:creator>user</dc:creator>
  <dc:description/>
  <dc:language>en-US</dc:language>
  <cp:lastModifiedBy>user</cp:lastModifiedBy>
  <dcterms:modified xsi:type="dcterms:W3CDTF">2013-01-27T17:45:38Z</dcterms:modified>
  <cp:revision>40</cp:revision>
  <dc:subject/>
  <dc:title>Танец: физическое и психоэмоциональное развитие человека.</dc:title>
</cp:coreProperties>
</file>